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16C-38B2-4EB3-9570-E50DB7C1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2AB-377D-4FAC-82F2-D4F6EC9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A8D-1C1B-4ED8-9BE5-71F6FE10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FE8-2B6E-4F2C-BD76-EB4D917D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9AA-701C-433C-8516-53E594F0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8037-8C67-4D9F-A8D2-AEF13A63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711-668D-4D47-8752-F36D095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2B3A-EBDE-456F-AF1E-AC821B53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AE22-9E82-47D3-B062-324139C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79BC-D14C-474A-B03F-8BC4277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817C-3A27-4EAE-A9D4-FF5B97B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FB4-E35D-4CAF-9055-3B34157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79F7-CB6E-4A80-99CE-9A791AD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B3B-6F26-4CD0-BB40-5BE78FD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DA58-ACE8-4078-BB2A-B8E66AA2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701F-EF0C-431B-9F28-0326EDC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EC9-7775-43FD-91FA-E9811E38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57E-D5BE-4BC8-BD9F-53F30F25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CB9-455F-40E2-BA57-47240B2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030-ED51-45D0-8C82-3D5C341B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047-12D9-43AC-B2CF-6FDDED9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C0E-7A62-4FD3-A152-C4ED4E4B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C5F-706F-4701-B436-0402092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FF9-7A16-4701-ADFE-93C0C0B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67C-768D-44D2-A34B-73659A7C0E3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ACA3-D59C-4134-BB50-E71711D1FE8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. наставна јединица (прв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вод у вештину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07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д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јези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нглески, дански, арапски, али и неки технички или сленг.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ук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оно што желите да кажет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индирек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р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ректну поруку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те читати или чути «између редова» и веома често су оне важније од директних порук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нал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начин како шаљете поруку (језиком, говором тела, додиром...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808200"/>
            <a:ext cx="85690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 муникацију  отежавају лични филтери кој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 блиско повезани са нашом личношћу и прошлошћ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гу се заснивати на нашем искуству, нпр. као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чности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ичних ситуациј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а да се афирмишемо или страхова од високих или моћних мест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шег васпитања и образовањ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Увек поставите себе на место вашег саговорника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3480" y="1672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иса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сигнална - симболичк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ред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посред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ђ) интраперсонална - интерперсонал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ор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           НЕВЕРБАЛ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 међуљудс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ласне вер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ц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Straight Connector 7"/>
          <p:cNvSpPr/>
          <p:nvPr/>
        </p:nvSpPr>
        <p:spPr>
          <a:xfrm>
            <a:off x="4716360" y="1628640"/>
            <a:ext cx="1008000" cy="576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 flipH="1">
            <a:off x="3419280" y="1628640"/>
            <a:ext cx="1006200" cy="639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8920" y="1714320"/>
            <a:ext cx="8929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и принципи комуникације на релацији лекар-пацијент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јам емпатије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шт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тенцирам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вештину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 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медици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х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ашег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ада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виси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ћањ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шим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тим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радниц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њ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пособност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познам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 прихватим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то о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жел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шно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поразумев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довољст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ат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vi-VN" sz="2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длучујућ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лог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езбеђивању сарад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чењ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ви утиса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колина  и услови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мбулант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сничка соб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ргентни центар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суство других особ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пацијен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матска/психичка бол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, бес, стрепњ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бразовање, узра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лека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Е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дословно уосећавање, уживљавањ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П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роцес непосредног уживљавања у емоционална стања, мишљење и понашање других људ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и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привлачност односно наклоности према некоме или нечему, јавља се спонтано и често је необјашњиво, ирационално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нти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је осећање које може да варира од благе ненаклоности и одбојности до изразите нетрпељивости и одвратности према некој особ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ертивност подразумева директно, јасно и искрено исказивање својих осећања, потреба и ставова особи која својим понашањем крши туђа пра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 је способност супротстављања на неагресиван и неманипулативан начин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00000" y="2133720"/>
            <a:ext cx="77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уникација је елементарна људска активност која је усмерена како према спољашњем свету, тако и према унутрашњем, властитом бић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 АСЕРТИВНА РЕЧЕНИЦА садржи став, чињенцу или опсервацију. То је кратка реченица која исказује потребу или право онога који је изговар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е чујем те добро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метају ми сталне упадице када говори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3. Твој ауто је блокирао мој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33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ЕМПАТИЧКА АСЕРТИВНОСТ садржи емпатију, препознавање стања и осећања друге особе и асертивност, исказивање сопствених потреба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1. Говориш јако тихо. Имам проблем да те чуј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ја имам потребу да довршим ово што сам почео да говори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3. Извини што прекидам разговор, твој ауто је блокирао мој, а ја морам одмах да крен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04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АСЕРТИВНОСТ КОЈА ТРАЖИ ОДГОВОР је директна порука која садржи нашу потребу и тражи од саговорника да прецизира своје мишљење, став или осећање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е чујем те, а јако ми је стало да чујем шта говориш. Можеш ли да говориш гласније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потребно ми је још пет минута да довршим. Можеш ли да сачека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идим да прекидам веома интересантан разговор, а твој ауто је блокирао мој. Треба одмах да кренем, можеш ли да пођеш са мном и да га помери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-27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СЕРТИВНОСТ НЕГАТИВНИХ ОСЕЋАЊА садржи: а) неутралан опис туђег понашања,             б) сопствена осећања у датој ситуацији и                  в) оно што би онај ко говори волео да друга особа уради или конкретни ефекат туђег понашања на особу која говори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Када ме ти прекинеш док говорим, иритиран сам и плашим се да ћу да изгубим нит, а врло ми је важно да јасно искажем оно што желим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Када твојим аутом блокираш мој, огорчена сам и волела бих да ми кажеш да ли наш договор око паркирања важи и даље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: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преношење и разумевање значења попрука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разм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у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, k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о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ћа;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споразумевањ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учинити нешто општим или заједнички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eng. comunity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штв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at. communis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чк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ић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људског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род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рен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Адаптациј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услов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пстанк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ема адапт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са окружењем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904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ти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ра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 почетку се одвијала доминантно невербал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апреди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20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бо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ишље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3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см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7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9280" y="1268280"/>
            <a:ext cx="8569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ви тип дефиниција нагласак ставља 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једништво, деље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једнички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ca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лити, учинити заједни- чким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 тип дефиниција наглашавају намеру, утицај, и комуникацију схватају ка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говар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односн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беђив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д одређеног броја теоретичара комуникација се види као проце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ношења 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ске теорије комуникацију посматрају ка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акциј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ја се састоји од интерактивних делова, а која је увек већа од збира својих дело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орав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нос информ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с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ер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перати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пешни у медици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бар комуникатор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ајбоља ствар комуникације је да не можемо да то престанемо да радимо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Увек комуницирам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, чак и онда када не разговарамо или гледамо једни у друге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Комуникација зависи од особа које комуницирају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Slavica</cp:lastModifiedBy>
  <dcterms:modified xsi:type="dcterms:W3CDTF">2018-01-21T13:09:32Z</dcterms:modified>
  <cp:revision>39</cp:revision>
  <dc:subject/>
  <dc:title>Slide 1</dc:title>
</cp:coreProperties>
</file>